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E54B-9BE5-4B14-940B-078F5077985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ateriale su CD-ROM 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FORM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tutor suggerisce al corsista di entrare almeno una vo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tutor potrà spuntare l’attività quando avrà elementi sufficienti: n. interventi nel forum, elaborato nella classe virtuale, n. adeguato di accessi alla  risorsa ….    DA CONCORDARE CON I CORSISTI E IL DIRETTORE DEL COR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958-1C98-42EE-B295-FA85778F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42A-F996-40F6-B4E6-4113D95C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DB65-8889-4417-AB7F-B7CA5671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5A09-CB0D-4E37-8E6A-7A7A897E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093D-9A17-4B9E-A011-6906140B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2F15-F0BC-42B8-984F-23B54A63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0D0A-EA83-46E9-ABA7-226987D2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4AFD-FDBE-4853-AFC6-93C2DF5F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CD4C-94AA-47FE-8A93-47457859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CA87-33D9-40CF-AC1D-5DED6EA4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EDB0-5CEF-47C0-9D77-71419DE3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9B76-EC15-4368-8A03-ED17198D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03F2-5939-4A1B-A044-D6BEBC90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FDF9-BF11-4618-8A9E-1986A7C4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D112-6FA6-461D-BDCC-93E666A0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5DF3-D81E-466E-906A-183E7239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D199-B7B6-42DA-BA5D-AF454714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219B-C791-4600-A65D-692551F1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4865-59FA-4690-AEDD-5B69E5C3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635-6833-4A03-A26D-761BB3A4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20B-262D-4505-9D76-C45A4296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A672-3C55-4A23-A0A6-BE8718FA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B55-381D-461E-B94A-34A24983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2DC-DCC7-4D1C-8B34-30B11AB7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E342-2173-4420-91B0-A3A08007AC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1834-B159-41C8-9B05-ED54823506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untoedu.indire.it/250scuole/progetto/informatica_file/frame.htm" TargetMode="Externa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struzione.it/" TargetMode="External"/><Relationship Id="rId2" Type="http://schemas.openxmlformats.org/officeDocument/2006/relationships/hyperlink" Target="http://www.istruzione.it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untoedu.indire.it/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untoedu.indire.it/250scuole/progetto/modello.htm" TargetMode="External"/><Relationship Id="rId2" Type="http://schemas.openxmlformats.org/officeDocument/2006/relationships/hyperlink" Target="http://puntoedu.indire.it/250scuole/progetto/modello.htm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untoedu.indire.it/250scuole/progetto/modello.htm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untoedu.indire.it/250scuole/progetto/modello.htm" TargetMode="External"/><Relationship Id="rId2" Type="http://schemas.openxmlformats.org/officeDocument/2006/relationships/hyperlink" Target="http://puntoedu.indire.it/250scuole/progetto/modello.htm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High Tower Text"/>
                <a:ea typeface="Times New Roman"/>
              </a:rPr>
              <a:t>Formazione sulla riforma    </a:t>
            </a:r>
            <a:br>
              <a:rPr sz="4400"/>
            </a:br>
            <a:r>
              <a:rPr b="1" lang="en-US" sz="4400" spc="-1" strike="noStrike">
                <a:solidFill>
                  <a:srgbClr val="cc0066"/>
                </a:solidFill>
                <a:latin typeface="High Tower Text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High Tower Text"/>
                <a:ea typeface="Times New Roman"/>
              </a:rPr>
              <a:t>D.M.</a:t>
            </a:r>
            <a:r>
              <a:rPr b="1" lang="en-US" sz="4400" spc="-1" strike="noStrike">
                <a:solidFill>
                  <a:srgbClr val="cc0066"/>
                </a:solidFill>
                <a:latin typeface="High Tower Text"/>
                <a:ea typeface="Times New Roman"/>
              </a:rPr>
              <a:t> 100/2002)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cc0066"/>
                </a:solidFill>
                <a:latin typeface="High Tower Text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cc0066"/>
                </a:solidFill>
                <a:latin typeface="High Tower Text"/>
                <a:ea typeface="Times New Roman"/>
              </a:rPr>
              <a:t>Area informatica</a:t>
            </a:r>
            <a:r>
              <a:rPr b="1" lang="en-US" sz="3200" spc="-1" strike="noStrike">
                <a:solidFill>
                  <a:srgbClr val="cc0066"/>
                </a:solidFill>
                <a:latin typeface="High Tower Text"/>
                <a:ea typeface="Times New Roman"/>
              </a:rPr>
              <a:t>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it-IT" sz="2400" spc="-1" strike="noStrike">
                <a:solidFill>
                  <a:srgbClr val="ffff00"/>
                </a:solidFill>
                <a:latin typeface="High Tower Text"/>
                <a:ea typeface="Times New Roman"/>
              </a:rPr>
              <a:t>Direttore del Corso dott.ssa D. Calligaris</a:t>
            </a:r>
            <a:br>
              <a:rPr sz="2400"/>
            </a:br>
            <a:r>
              <a:rPr b="1" lang="it-IT" sz="2400" spc="-1" strike="noStrike">
                <a:solidFill>
                  <a:srgbClr val="ffff00"/>
                </a:solidFill>
                <a:latin typeface="High Tower Text"/>
                <a:ea typeface="Times New Roman"/>
              </a:rPr>
              <a:t>Tutor d’aula prof.ssa Lucia Chiavegat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High Tower Text"/>
                <a:ea typeface="Times New Roman"/>
              </a:rPr>
              <a:t>Udine, aprile - giugno 2003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E916-D829-44A8-979E-82BF600D222E}" type="slidenum">
              <a:t>1</a:t>
            </a:fld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AREA INFORMATICA</a:t>
            </a:r>
            <a:endParaRPr b="0" lang="en-US" sz="4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1240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OFFERTA FORMATIV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F3D-3B1A-40AA-8B33-704A23B7A5A3}" type="slidenum">
              <a:t>10</a:t>
            </a:fld>
          </a:p>
        </p:txBody>
      </p:sp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tale ore in presenza  18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581280"/>
            <a:ext cx="77724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tale ore on line  2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6BB-6F74-4CB6-8A25-A9549554EC4D}" type="slidenum">
              <a:t>11</a:t>
            </a:fld>
          </a:p>
        </p:txBody>
      </p:sp>
    </p:spTree>
  </p:cSld>
  <p:transition spd="med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LA CLASSE VIRTUALE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1911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rganizzare la successiva attività in presenz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0481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cambiare comunicazioni riguardanti le attività decise negli incontri in presenz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3623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mantenere i contatti con il Tut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48769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consegnare gli elaborati al Tutor, se si decide in tal sens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5D13-013F-4AA9-A62E-C69C4B3AC943}" type="slidenum">
              <a:t>12</a:t>
            </a:fld>
          </a:p>
        </p:txBody>
      </p:sp>
    </p:spTree>
  </p:cSld>
  <p:transition spd="med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IL SISTEMA DEI CREDITI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1337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27432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828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 crediti per ogni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rs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6668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 crediti per ogni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aborator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3429000"/>
            <a:ext cx="81532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 crediti per la partecipazione ad ogni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forum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delle associazioni disciplinari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(se il numero degli interventi è superiore a 5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53341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 credito  =  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 ora di lavor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457-B456-4902-BE70-DD3485FCD1E5}" type="slidenum">
              <a:t>13</a:t>
            </a:fld>
          </a:p>
        </p:txBody>
      </p:sp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N.B.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743200"/>
            <a:ext cx="7696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ffff00"/>
                </a:solidFill>
                <a:latin typeface="Times New Roman"/>
              </a:rPr>
              <a:t>la trasformazione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imes New Roman"/>
              </a:rPr>
              <a:t>delle ore in presenza in crediti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imes New Roman"/>
              </a:rPr>
              <a:t>è a carico del Tuto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D47-3F6F-4D31-8E38-66D1A20C6759}" type="slidenum">
              <a:t>14</a:t>
            </a:fld>
          </a:p>
        </p:txBody>
      </p:sp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IL REGISTRO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5146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1337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Il Tutor ha a disposizione un “registro virtuale” nel quale vengono tracciate automaticamente le attività svolte che tuttavia potranno essere integrate dal Tut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34340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l corsista non ha accesso al registro ma può chiedere di avere la stampa di una scheda sintetica nella quale viene “fotografata” la sua situazion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939-B0B6-4A5E-AE00-E2C42C9FE147}" type="slidenum">
              <a:t>15</a:t>
            </a:fld>
          </a:p>
        </p:txBody>
      </p:sp>
    </p:spTree>
  </p:cSld>
  <p:transition spd="med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PORTFOLIO </a:t>
            </a:r>
            <a:br>
              <a:rPr sz="4400"/>
            </a:b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DI OGNI CORSISTA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514600"/>
            <a:ext cx="7467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imes New Roman"/>
              </a:rPr>
              <a:t>Al termine della formazione il tutor stamperà un rapporto sintetico delle attività svolte dal corsista con accanto il numero di crediti accumulat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365-3EBC-41E8-8399-C200298CBF66}" type="slidenum">
              <a:t>16</a:t>
            </a:fld>
          </a:p>
        </p:txBody>
      </p:sp>
    </p:spTree>
  </p:cSld>
  <p:transition spd="med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COME ENTRARE NELLA PIATTAFORMA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25146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gni docente possiede due “chiavi” per entrare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7339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nikna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4956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  passwor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D974-5870-4414-B995-066FBBDD1E93}" type="slidenum">
              <a:t>17</a:t>
            </a:fld>
          </a:p>
        </p:txBody>
      </p:sp>
    </p:spTree>
  </p:cSld>
  <p:transition spd="med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17524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l Dirigente Scolastico è il responsabile dell’iscrizione dei propri docent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20040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I docenti iscritti devono dotarsi di un indirizzo e-mail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( Il MIUR mette a disposizione questo servizio all’indirizzo    </a:t>
            </a:r>
            <a:r>
              <a:rPr b="0" lang="it-IT" sz="28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www.istruzione.</a:t>
            </a:r>
            <a:r>
              <a:rPr b="0" lang="it-IT" sz="2800" spc="-1" strike="noStrike" u="sng">
                <a:solidFill>
                  <a:srgbClr val="ff00ff"/>
                </a:solidFill>
                <a:uFillTx/>
                <a:latin typeface="Times New Roman"/>
                <a:hlinkClick r:id="rId2"/>
              </a:rPr>
              <a:t>it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D77-40F3-43C1-999C-D6B74C2DB282}" type="slidenum">
              <a:t>18</a:t>
            </a:fld>
          </a:p>
        </p:txBody>
      </p:sp>
    </p:spTree>
  </p:cSld>
  <p:transition spd="med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L’attivazione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236232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l primo accesso è necessario seguir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a procedura di 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attivazio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AD0-E1E6-4CC9-B6CC-8D27017CA9FE}" type="slidenum">
              <a:t>19</a:t>
            </a:fld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1° INCONTRO</a:t>
            </a:r>
            <a:br>
              <a:rPr sz="4800"/>
            </a:b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lunedì 07 aprile 2003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DD5-261D-4DB0-A32F-3D224D59D137}" type="slidenum">
              <a:t>2</a:t>
            </a:fld>
          </a:p>
        </p:txBody>
      </p:sp>
    </p:spTree>
  </p:cSld>
  <p:transition spd="med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66"/>
                </a:solidFill>
                <a:latin typeface="High Tower Text"/>
              </a:rPr>
              <a:t>CALENDARIO DEGLI INCONTRI</a:t>
            </a:r>
            <a:r>
              <a:rPr b="1" lang="it-IT" sz="3200" spc="-1" strike="noStrike">
                <a:solidFill>
                  <a:srgbClr val="cc0066"/>
                </a:solidFill>
                <a:latin typeface="High Tower Text"/>
              </a:rPr>
              <a:t> </a:t>
            </a:r>
            <a:br>
              <a:rPr sz="3200"/>
            </a:br>
            <a:r>
              <a:rPr b="1" lang="it-IT" sz="3200" spc="-1" strike="noStrike">
                <a:solidFill>
                  <a:srgbClr val="cc0066"/>
                </a:solidFill>
                <a:latin typeface="High Tower Text"/>
              </a:rPr>
              <a:t>AREA INFORMATICA </a:t>
            </a:r>
            <a:br>
              <a:rPr sz="3200"/>
            </a:br>
            <a:r>
              <a:rPr b="1" lang="it-IT" sz="1800" spc="-1" strike="noStrike">
                <a:solidFill>
                  <a:srgbClr val="cc0066"/>
                </a:solidFill>
                <a:latin typeface="High Tower Text"/>
                <a:ea typeface="Times New Roman"/>
              </a:rPr>
              <a:t>Collegio della Provvidenza, via Scrosoppi 2, Udine</a:t>
            </a:r>
            <a:r>
              <a:rPr b="0" lang="it-IT" sz="44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2133720"/>
          <a:ext cx="8152920" cy="4144680"/>
        </p:xfrm>
        <a:graphic>
          <a:graphicData uri="http://schemas.openxmlformats.org/drawingml/2006/table">
            <a:tbl>
              <a:tblPr/>
              <a:tblGrid>
                <a:gridCol w="2038320"/>
                <a:gridCol w="2037960"/>
                <a:gridCol w="2038680"/>
                <a:gridCol w="203796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LUNEDÌ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07 APRIL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15.00 – 18.0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3 OR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85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MERCOLEDÌ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16 APRIL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16.00 – 19.0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3 OR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MERCOLEDÌ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30 APRIL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15.00 – 19.0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4 OR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GIOVEDÌ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22 MAGGIO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15.00 – 19.0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4 OR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GIOVEDÌ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07 APRIL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9.00 – 13.0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4 OR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000066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19CE-3136-4517-94B0-D6F410EC85B0}" type="slidenum">
              <a:t>20</a:t>
            </a:fld>
          </a:p>
        </p:txBody>
      </p:sp>
    </p:spTree>
  </p:cSld>
  <p:transition spd="med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Il compito  …   per casa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43434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ozza di progett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198108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Esplorazione della piattaforma Puntoedu area informatic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32004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tilizzo di strumenti: classe virtuale, forum, e-mail, …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995-725E-4C15-B254-BE520BEB77D9}" type="slidenum">
              <a:t>21</a:t>
            </a:fld>
          </a:p>
        </p:txBody>
      </p:sp>
    </p:spTree>
  </p:cSld>
  <p:transition spd="med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Programma 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del prossimo incontro in presenza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mercoledì 16 aprile 2003</a:t>
            </a: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5909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scussione sui problemi emersi durante l’esplorazio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37339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tilizzo degli strumenti: classe virtuale (se sarà attiva), forum, …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49528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same e confronto degli schemi di progett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B6B0-FDFB-449C-9EC0-1B00BB350FEA}" type="slidenum">
              <a:t>22</a:t>
            </a:fld>
          </a:p>
        </p:txBody>
      </p:sp>
    </p:spTree>
  </p:cSld>
  <p:transition spd="med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arrivederci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43434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mercoledì 16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103-C536-4221-896E-0B17382F972E}" type="slidenum">
              <a:t>23</a:t>
            </a:fld>
          </a:p>
        </p:txBody>
      </p:sp>
    </p:spTree>
  </p:cSld>
  <p:transition spd="med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304920"/>
            <a:ext cx="8305920" cy="6137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IMA PART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      Attività preliminari: firme di presenza, autorizzazione all’uso del mezzo proprio,…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      Saluto del Tutor  “Il Tutor della formazione: </a:t>
            </a:r>
            <a:r>
              <a:rPr b="1" i="1" lang="it-IT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l  facilitatore”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      Presentazione dei Corsisti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      Compilazione delle schede personali (raccolta di informazioni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ECONDA PART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      Relazione del Tutor “Formazione sulla riforma: l’area informatica”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.      Visita guidata nell’ambiente PUNTOEDU per la Riforma area informatic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orsi, Laboratori, Biblioteca delle esperienze, Forum, Approfondimento sulle competenze informatich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.     I percorsi di apprendimento individuali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      Ipotesi di formazione del proprio percorso formativo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      Eventuale formazione di gruppi di interess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RZA PART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      Linee guida per l’organizzazione degli incontri successivi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      Negoziazione del calendario dei rimanenti incontri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FAD-6C69-4F26-8E4F-EA208729C9CA}" type="slidenum">
              <a:t>3</a:t>
            </a:fld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Finalità del </a:t>
            </a:r>
            <a:br>
              <a:rPr sz="4400"/>
            </a:b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Progetto di formazione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4343400"/>
            <a:ext cx="7162560" cy="1323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sare con profitto le tecnologi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ella didattica di ogni  giorn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7720" y="2743200"/>
            <a:ext cx="82854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L’acquisizione di competenze di base contestualizz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3581280"/>
            <a:ext cx="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F05-ECAE-44BE-82FD-1D32D50618F0}" type="slidenum">
              <a:t>4</a:t>
            </a:fld>
          </a:p>
        </p:txBody>
      </p:sp>
    </p:spTree>
  </p:cSld>
  <p:transition spd="med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837720"/>
            <a:ext cx="58672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Modalità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35268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cc0066"/>
                </a:solidFill>
                <a:latin typeface="Times New Roman"/>
              </a:rPr>
              <a:t>e-learning integrato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2286000"/>
            <a:ext cx="0" cy="9144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10A-DC5F-44A1-B732-6961FAE84B39}" type="slidenum">
              <a:t>5</a:t>
            </a:fld>
          </a:p>
        </p:txBody>
      </p:sp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0570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ff00ff"/>
                </a:solidFill>
                <a:uFillTx/>
                <a:latin typeface="Arial"/>
                <a:hlinkClick r:id="rId1"/>
              </a:rPr>
              <a:t>cosa vuol dire e-</a:t>
            </a:r>
            <a:r>
              <a:rPr b="0" lang="it-IT" sz="4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learning</a:t>
            </a:r>
            <a:r>
              <a:rPr b="1" lang="it-IT" sz="44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4400"/>
            </a:b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6504-D503-4DAC-8320-B8D63EEADB78}" type="slidenum">
              <a:t>6</a:t>
            </a:fld>
          </a:p>
        </p:txBody>
      </p:sp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Il progetto prevede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gettazione di  interventi formativi da svolgere in classe o a scuola che prevedono l’uso integrato delle tecnologie nella attività didattica quotidiana, da verificare concre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5146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Autoformazione guida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786D-8B79-4D77-AA6A-3A58AB302065}" type="slidenum">
              <a:t>7</a:t>
            </a:fld>
          </a:p>
        </p:txBody>
      </p:sp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ff"/>
                </a:solidFill>
                <a:uFillTx/>
                <a:latin typeface="Arial"/>
                <a:hlinkClick r:id="rId1"/>
              </a:rPr>
              <a:t>Quadro di sistema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: modalità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880-66C3-4C48-ADA0-3472F56D5ED1}" type="slidenum">
              <a:t>8</a:t>
            </a:fld>
          </a:p>
        </p:txBody>
      </p:sp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ff00ff"/>
                </a:solidFill>
                <a:uFillTx/>
                <a:latin typeface="Arial"/>
                <a:hlinkClick r:id="rId1"/>
              </a:rPr>
              <a:t>I tasselli di</a:t>
            </a:r>
            <a:r>
              <a:rPr b="0" lang="it-IT" sz="4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 Puntoedu</a:t>
            </a:r>
            <a:r>
              <a:rPr b="1" lang="it-IT" sz="4400" spc="-1" strike="noStrike">
                <a:solidFill>
                  <a:srgbClr val="cc0066"/>
                </a:solidFill>
                <a:latin typeface="Arial"/>
              </a:rPr>
              <a:t>  </a:t>
            </a:r>
            <a:br>
              <a:rPr sz="4400"/>
            </a:br>
            <a:r>
              <a:rPr b="1" lang="it-IT" sz="1600" spc="-1" strike="noStrike">
                <a:solidFill>
                  <a:srgbClr val="cc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Chiavegato 2003, Formazione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4CF8-CB7E-420A-A304-13B354C44F47}" type="slidenum">
              <a:t>9</a:t>
            </a:fld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4T15:53:41Z</dcterms:created>
  <dc:creator>Lucia Chiavegato</dc:creator>
  <dc:description/>
  <dc:language>en-US</dc:language>
  <cp:lastModifiedBy>bullo</cp:lastModifiedBy>
  <dcterms:modified xsi:type="dcterms:W3CDTF">2003-04-17T08:50:15Z</dcterms:modified>
  <cp:revision>76</cp:revision>
  <dc:subject/>
  <dc:title>Linee di azione</dc:title>
</cp:coreProperties>
</file>